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ct" ContentType="image/x-pict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ff0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ABEF-907B-44B6-BE86-87AE0C8C9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5F8C-661A-44A2-B1AE-E39B9E0AA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9B30-7EE6-4942-AA01-475C65292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D723-9B39-4903-8A49-95226199C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E34E-7636-4B27-AEBC-A5E092953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1B8F-476F-4288-A59B-845A5A638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E94B-A0EB-42A4-A1D5-EDAC8CDF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1AF3-A248-4CE8-A17C-251FE4F4D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9A09-F778-423C-ACBE-DF7F31985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C6B8-B311-4F74-9995-A62356C6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5F7D-2C0E-4264-9A7A-BC1C95D9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6D75-72B6-4CA1-A7A8-BE7F3E21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3BC8-8334-49FA-8819-47A99436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8F66-54CF-4344-9FFF-79E44C8C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EB52-F499-40C1-AD71-1FB5BCDB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35DA-A1D7-49E3-98F1-DA991E9C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C0A3-C30F-4F68-89F5-91C757E8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ff0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ff0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4446-CFF4-403B-AB82-487B71F9252F}" type="slidenum">
              <a:rPr b="0" lang="en-US" sz="1400" spc="-1" strike="noStrike">
                <a:solidFill>
                  <a:srgbClr val="f9ff0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419040" y="1447920"/>
            <a:ext cx="8305920" cy="0"/>
          </a:xfrm>
          <a:prstGeom prst="line">
            <a:avLst/>
          </a:prstGeom>
          <a:ln w="38160">
            <a:solidFill>
              <a:srgbClr val="ff06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19040" y="1523880"/>
            <a:ext cx="8305920" cy="0"/>
          </a:xfrm>
          <a:prstGeom prst="line">
            <a:avLst/>
          </a:prstGeom>
          <a:ln w="38160">
            <a:solidFill>
              <a:srgbClr val="ff06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05740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Integrated Comprehensive Approach to the Brain Tumor Patient: </a:t>
            </a:r>
            <a:br>
              <a:rPr sz="3600"/>
            </a:b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Five Cases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441972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1ff19"/>
                </a:solidFill>
                <a:latin typeface="Arial"/>
              </a:rPr>
              <a:t>Neurosurgeon (neurosurgical questions):</a:t>
            </a:r>
            <a:r>
              <a:rPr b="1" i="1" lang="en-US" sz="2000" spc="-1" strike="noStrike">
                <a:solidFill>
                  <a:srgbClr val="f9ff0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andy L. Jensen, MD, Ph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9ff04"/>
                </a:solidFill>
                <a:latin typeface="Arial"/>
              </a:rPr>
              <a:t>Neuroradiologist response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ndrei Holodny, M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1ff19"/>
                </a:solidFill>
                <a:latin typeface="Arial"/>
              </a:rPr>
              <a:t>Neuro-Oncologist (management questions)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Howard Colman, MD, Ph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9ff04"/>
                </a:solidFill>
                <a:latin typeface="Arial"/>
              </a:rPr>
              <a:t>Neuroradiologist response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Whitney Pope, MD, Ph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7388280" y="152280"/>
            <a:ext cx="1603440" cy="1911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457200" y="725400"/>
            <a:ext cx="2925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9ff04"/>
                </a:solidFill>
                <a:latin typeface="Arial"/>
                <a:ea typeface="HG Mincho Light J"/>
              </a:rPr>
              <a:t>ISMRM, 2013, Salt Lake 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f04"/>
                </a:solidFill>
                <a:latin typeface="Arial"/>
              </a:rPr>
              <a:t>Monday, 22 April, 10:45-12: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f04"/>
                </a:solidFill>
                <a:latin typeface="Arial"/>
              </a:rPr>
              <a:t>Room:  251 BC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4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523800" y="1643040"/>
            <a:ext cx="8391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8 y.o. right-handed man with Hx of grade II tumor Tx by resection and chemotherapy, presents 7 yrs later with head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RI shows bifrontal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iopsy shows grade III oligoastrocytoma with malignant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at are the neurosurgeon’s goals for managing this pati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tle 1"/>
          <p:cNvSpPr/>
          <p:nvPr/>
        </p:nvSpPr>
        <p:spPr>
          <a:xfrm>
            <a:off x="304920" y="669960"/>
            <a:ext cx="8305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4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4724280" y="1905120"/>
            <a:ext cx="4191120" cy="3733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61"/>
          <p:cNvGrpSpPr/>
          <p:nvPr/>
        </p:nvGrpSpPr>
        <p:grpSpPr>
          <a:xfrm>
            <a:off x="304920" y="2057400"/>
            <a:ext cx="8839080" cy="3276720"/>
            <a:chOff x="304920" y="2057400"/>
            <a:chExt cx="8839080" cy="3276720"/>
          </a:xfrm>
        </p:grpSpPr>
        <p:graphicFrame>
          <p:nvGraphicFramePr>
            <p:cNvPr id="96" name=""/>
            <p:cNvGraphicFramePr/>
            <p:nvPr/>
          </p:nvGraphicFramePr>
          <p:xfrm>
            <a:off x="304920" y="2057400"/>
            <a:ext cx="7631640" cy="3157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2057400"/>
                      <a:ext cx="7631640" cy="315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98" name="Picture 4" descr=""/>
            <p:cNvPicPr/>
            <p:nvPr/>
          </p:nvPicPr>
          <p:blipFill>
            <a:blip r:embed="rId3"/>
            <a:stretch/>
          </p:blipFill>
          <p:spPr>
            <a:xfrm>
              <a:off x="4652280" y="2244600"/>
              <a:ext cx="4491720" cy="25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Rectangle 55"/>
            <p:cNvSpPr/>
            <p:nvPr/>
          </p:nvSpPr>
          <p:spPr>
            <a:xfrm>
              <a:off x="4572000" y="4724640"/>
              <a:ext cx="4572000" cy="609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56"/>
            <p:cNvSpPr/>
            <p:nvPr/>
          </p:nvSpPr>
          <p:spPr>
            <a:xfrm>
              <a:off x="304920" y="2057400"/>
              <a:ext cx="8839080" cy="18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58"/>
            <p:cNvSpPr/>
            <p:nvPr/>
          </p:nvSpPr>
          <p:spPr>
            <a:xfrm>
              <a:off x="4648320" y="2320920"/>
              <a:ext cx="152280" cy="2479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59"/>
            <p:cNvSpPr/>
            <p:nvPr/>
          </p:nvSpPr>
          <p:spPr>
            <a:xfrm>
              <a:off x="8991720" y="2244600"/>
              <a:ext cx="152280" cy="2479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5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523800" y="1643040"/>
            <a:ext cx="8391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 y.o. right-handed woman with seiz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RI shows small high grade tumor in left parietal l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iopsy shows with grade IV tumor 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at are the neurosurgeon’s goals for managing this pati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Is cure possible?  How much is enoug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5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523800" y="1643040"/>
            <a:ext cx="839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Pre operative M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1447920" y="2217600"/>
            <a:ext cx="62578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5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523800" y="1643040"/>
            <a:ext cx="839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Post operative M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1684440" y="2244600"/>
            <a:ext cx="580392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1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528480" y="1643040"/>
            <a:ext cx="8161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4 y.o. right-handed man presented with seiz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RI showed mass in left hemisphe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iopsy gave a grade II astrocyt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at are the immediate neurosurgical questions for managing this patient with low grade tum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How is the resection result evalu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1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 (pre)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57" name="Picture 7" descr="MPpreanatomy.tif"/>
          <p:cNvPicPr/>
          <p:nvPr/>
        </p:nvPicPr>
        <p:blipFill>
          <a:blip r:embed="rId1"/>
          <a:stretch/>
        </p:blipFill>
        <p:spPr>
          <a:xfrm>
            <a:off x="612720" y="2771640"/>
            <a:ext cx="8039160" cy="3289320"/>
          </a:xfrm>
          <a:prstGeom prst="rect">
            <a:avLst/>
          </a:prstGeom>
          <a:ln w="0">
            <a:noFill/>
          </a:ln>
        </p:spPr>
      </p:pic>
      <p:cxnSp>
        <p:nvCxnSpPr>
          <p:cNvPr id="58" name="Straight Arrow Connector 8"/>
          <p:cNvCxnSpPr/>
          <p:nvPr/>
        </p:nvCxnSpPr>
        <p:spPr>
          <a:xfrm>
            <a:off x="1446840" y="3446280"/>
            <a:ext cx="896040" cy="99900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Box 9"/>
          <p:cNvSpPr/>
          <p:nvPr/>
        </p:nvSpPr>
        <p:spPr>
          <a:xfrm>
            <a:off x="1857240" y="6060960"/>
            <a:ext cx="677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T1                              T1+Gd                               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523800" y="1643040"/>
            <a:ext cx="816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Low rCBV by DSC MR perfusion, no blood products except at biopsy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1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 (post)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87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No language comprehension or memory difficulties post-operatively</a:t>
            </a:r>
            <a:endParaRPr b="0" lang="en-US" sz="24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63" name="Picture 7" descr="MPpostanatomy.tif"/>
          <p:cNvPicPr/>
          <p:nvPr/>
        </p:nvPicPr>
        <p:blipFill>
          <a:blip r:embed="rId1"/>
          <a:stretch/>
        </p:blipFill>
        <p:spPr>
          <a:xfrm>
            <a:off x="603360" y="2771640"/>
            <a:ext cx="8084880" cy="3300480"/>
          </a:xfrm>
          <a:prstGeom prst="rect">
            <a:avLst/>
          </a:prstGeom>
          <a:ln w="0">
            <a:noFill/>
          </a:ln>
        </p:spPr>
      </p:pic>
      <p:sp>
        <p:nvSpPr>
          <p:cNvPr id="64" name="TextBox 8"/>
          <p:cNvSpPr/>
          <p:nvPr/>
        </p:nvSpPr>
        <p:spPr>
          <a:xfrm>
            <a:off x="1857240" y="6060960"/>
            <a:ext cx="677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T1                             T1+Gd                                 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Straight Arrow Connector 9"/>
          <p:cNvCxnSpPr/>
          <p:nvPr/>
        </p:nvCxnSpPr>
        <p:spPr>
          <a:xfrm>
            <a:off x="6930000" y="3647880"/>
            <a:ext cx="894600" cy="99900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2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23800" y="1643040"/>
            <a:ext cx="8166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5 y.o. right-handed woman presented with headaches and new onset of seiz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RI showed mass in left hemisphe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iopsy: 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ff04"/>
                </a:solidFill>
                <a:latin typeface="Arial"/>
              </a:rPr>
              <a:t>What are the neurosurgical goals for managing this pati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ff04"/>
                </a:solidFill>
                <a:latin typeface="Arial"/>
              </a:rPr>
              <a:t>How are surgical margins determin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ff04"/>
                </a:solidFill>
                <a:latin typeface="Arial"/>
              </a:rPr>
              <a:t>How is the resection result evalu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SSpreop.jpg"/>
          <p:cNvPicPr/>
          <p:nvPr/>
        </p:nvPicPr>
        <p:blipFill>
          <a:blip r:embed="rId1"/>
          <a:stretch/>
        </p:blipFill>
        <p:spPr>
          <a:xfrm>
            <a:off x="1371600" y="1600200"/>
            <a:ext cx="5477040" cy="4513320"/>
          </a:xfrm>
          <a:prstGeom prst="rect">
            <a:avLst/>
          </a:prstGeom>
          <a:ln w="0">
            <a:noFill/>
          </a:ln>
        </p:spPr>
      </p:pic>
      <p:cxnSp>
        <p:nvCxnSpPr>
          <p:cNvPr id="69" name="Straight Arrow Connector 3"/>
          <p:cNvCxnSpPr/>
          <p:nvPr/>
        </p:nvCxnSpPr>
        <p:spPr>
          <a:xfrm>
            <a:off x="3352680" y="1844640"/>
            <a:ext cx="805680" cy="822960"/>
          </a:xfrm>
          <a:prstGeom prst="straightConnector1">
            <a:avLst/>
          </a:prstGeom>
          <a:ln w="66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0" name="Straight Arrow Connector 4"/>
          <p:cNvCxnSpPr/>
          <p:nvPr/>
        </p:nvCxnSpPr>
        <p:spPr>
          <a:xfrm>
            <a:off x="3386160" y="4053960"/>
            <a:ext cx="805680" cy="823320"/>
          </a:xfrm>
          <a:prstGeom prst="straightConnector1">
            <a:avLst/>
          </a:prstGeom>
          <a:ln w="66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1" name="Straight Arrow Connector 6"/>
          <p:cNvCxnSpPr/>
          <p:nvPr/>
        </p:nvCxnSpPr>
        <p:spPr>
          <a:xfrm>
            <a:off x="5138640" y="1844640"/>
            <a:ext cx="805680" cy="822960"/>
          </a:xfrm>
          <a:prstGeom prst="straightConnector1">
            <a:avLst/>
          </a:prstGeom>
          <a:ln w="66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2" name="Straight Arrow Connector 7"/>
          <p:cNvCxnSpPr/>
          <p:nvPr/>
        </p:nvCxnSpPr>
        <p:spPr>
          <a:xfrm>
            <a:off x="5184720" y="4053960"/>
            <a:ext cx="807120" cy="823320"/>
          </a:xfrm>
          <a:prstGeom prst="straightConnector1">
            <a:avLst/>
          </a:prstGeom>
          <a:ln w="666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3" name="TextBox 8"/>
          <p:cNvSpPr/>
          <p:nvPr/>
        </p:nvSpPr>
        <p:spPr>
          <a:xfrm>
            <a:off x="2106720" y="3463920"/>
            <a:ext cx="435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1             T1+Gd           G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2           T2-FLAIR         rCB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152280" y="1066680"/>
            <a:ext cx="88394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2 year old female presenting with a seiz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72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2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 (pre)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tle 5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2: Post-op G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itle 5"/>
          <p:cNvSpPr/>
          <p:nvPr/>
        </p:nvSpPr>
        <p:spPr>
          <a:xfrm>
            <a:off x="685800" y="7700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2: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 (post)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1608120" y="1643040"/>
            <a:ext cx="5894280" cy="4910040"/>
          </a:xfrm>
          <a:prstGeom prst="rect">
            <a:avLst/>
          </a:prstGeom>
          <a:ln w="0">
            <a:noFill/>
          </a:ln>
        </p:spPr>
      </p:pic>
      <p:sp>
        <p:nvSpPr>
          <p:cNvPr id="79" name="Line 6"/>
          <p:cNvSpPr/>
          <p:nvPr/>
        </p:nvSpPr>
        <p:spPr>
          <a:xfrm flipV="1">
            <a:off x="4876920" y="1642680"/>
            <a:ext cx="904680" cy="7714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3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23800" y="1523880"/>
            <a:ext cx="8166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 y.o. right-handed man presented with major behavioral changes and then seiz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RI showed mass in right hemisphere with hydrocephalus. Biopsy shows Grade II astrocyt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ff04"/>
                </a:solidFill>
                <a:latin typeface="Arial"/>
              </a:rPr>
              <a:t>What are the neurosurgeon’s goals for managing this patient with low grade infiltrating tum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ff04"/>
                </a:solidFill>
                <a:latin typeface="Arial"/>
              </a:rPr>
              <a:t>Is this resectable? Does it need debulk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52668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9ff04"/>
                </a:solidFill>
                <a:latin typeface="Arial"/>
              </a:rPr>
              <a:t>Grade II Oligoastrocytoma</a:t>
            </a:r>
            <a:endParaRPr b="0" lang="en-US" sz="40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83" name="Picture 3" descr="AMprepostRx.jpg"/>
          <p:cNvPicPr/>
          <p:nvPr/>
        </p:nvPicPr>
        <p:blipFill>
          <a:blip r:embed="rId1"/>
          <a:stretch/>
        </p:blipFill>
        <p:spPr>
          <a:xfrm>
            <a:off x="1641600" y="1978200"/>
            <a:ext cx="6635520" cy="467676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81360" y="2417760"/>
            <a:ext cx="1559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Pre 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Im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Post 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2562120" y="4078440"/>
            <a:ext cx="53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T1                       T1+Gd                    T2-FL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Straight Arrow Connector 7"/>
          <p:cNvCxnSpPr/>
          <p:nvPr/>
        </p:nvCxnSpPr>
        <p:spPr>
          <a:xfrm>
            <a:off x="3757680" y="1978200"/>
            <a:ext cx="805680" cy="714960"/>
          </a:xfrm>
          <a:prstGeom prst="straightConnector1">
            <a:avLst/>
          </a:prstGeom>
          <a:ln w="66600">
            <a:solidFill>
              <a:srgbClr val="ff0609"/>
            </a:solidFill>
            <a:miter/>
            <a:tailEnd len="med" type="arrow" w="med"/>
          </a:ln>
        </p:spPr>
      </p:cxnSp>
      <p:cxnSp>
        <p:nvCxnSpPr>
          <p:cNvPr id="87" name="Straight Arrow Connector 8"/>
          <p:cNvCxnSpPr/>
          <p:nvPr/>
        </p:nvCxnSpPr>
        <p:spPr>
          <a:xfrm>
            <a:off x="5892840" y="1978200"/>
            <a:ext cx="805680" cy="724320"/>
          </a:xfrm>
          <a:prstGeom prst="straightConnector1">
            <a:avLst/>
          </a:prstGeom>
          <a:ln w="66600">
            <a:solidFill>
              <a:srgbClr val="ff0609"/>
            </a:solidFill>
            <a:miter/>
            <a:tailEnd len="med" type="arrow" w="med"/>
          </a:ln>
        </p:spPr>
      </p:cxnSp>
      <p:cxnSp>
        <p:nvCxnSpPr>
          <p:cNvPr id="88" name="Straight Arrow Connector 9"/>
          <p:cNvCxnSpPr/>
          <p:nvPr/>
        </p:nvCxnSpPr>
        <p:spPr>
          <a:xfrm>
            <a:off x="1732320" y="1978200"/>
            <a:ext cx="678600" cy="724320"/>
          </a:xfrm>
          <a:prstGeom prst="straightConnector1">
            <a:avLst/>
          </a:prstGeom>
          <a:ln w="66600">
            <a:solidFill>
              <a:srgbClr val="ff0609"/>
            </a:solidFill>
            <a:miter/>
            <a:tailEnd len="med" type="arrow" w="med"/>
          </a:ln>
        </p:spPr>
      </p:cxnSp>
      <p:cxnSp>
        <p:nvCxnSpPr>
          <p:cNvPr id="89" name="Straight Arrow Connector 10"/>
          <p:cNvCxnSpPr/>
          <p:nvPr/>
        </p:nvCxnSpPr>
        <p:spPr>
          <a:xfrm flipH="1" flipV="1">
            <a:off x="7686360" y="6019200"/>
            <a:ext cx="543600" cy="432360"/>
          </a:xfrm>
          <a:prstGeom prst="straightConnector1">
            <a:avLst/>
          </a:prstGeom>
          <a:ln w="6660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90" name="Straight Arrow Connector 15"/>
          <p:cNvCxnSpPr/>
          <p:nvPr/>
        </p:nvCxnSpPr>
        <p:spPr>
          <a:xfrm flipH="1" flipV="1">
            <a:off x="7681680" y="3733200"/>
            <a:ext cx="543600" cy="432360"/>
          </a:xfrm>
          <a:prstGeom prst="straightConnector1">
            <a:avLst/>
          </a:prstGeom>
          <a:ln w="66600">
            <a:solidFill>
              <a:srgbClr val="ff8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17:29:03Z</dcterms:created>
  <dc:creator>Keith Thulborn</dc:creator>
  <dc:description/>
  <dc:language>en-US</dc:language>
  <cp:lastModifiedBy>Thulborn , Keith</cp:lastModifiedBy>
  <dcterms:modified xsi:type="dcterms:W3CDTF">2013-04-11T23:37:36Z</dcterms:modified>
  <cp:revision>80</cp:revision>
  <dc:subject/>
  <dc:title>PowerPoint Presentation</dc:title>
</cp:coreProperties>
</file>